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54A2-884C-44A7-A15B-B89D80CA4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77A8-4726-4A24-B5DC-AE865D3E1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35EA-5D2B-4DE2-B711-8119181F3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0C5C-E93D-49F1-90AF-B85A6926F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A30C-F2A3-46A0-BF8C-39C59601B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C6EE-1C1D-48F2-B211-2A3E00280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9D10-41DB-4158-B39D-BDE6B106C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A17D-63BC-4B08-B2E5-B6CFDBECB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6EFF-EC82-4F4A-93CE-AB966300B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72CF-5E45-48A0-9635-46BEA027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7676-C77B-4AF4-9B02-494EF12E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04FE-4131-44AC-866D-E22D8471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F1530-B01A-4521-966B-23E10F0B94E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Languages_-_a_revolution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newint.org/features/2014/06/01/keynote-minority-languages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63760" y="1052640"/>
            <a:ext cx="5484960" cy="37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alibri"/>
              </a:rPr>
              <a:t>Quiz about minority language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068280"/>
            <a:ext cx="17604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241200" y="260280"/>
            <a:ext cx="2975040" cy="5256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3263760" y="5370480"/>
            <a:ext cx="590076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do you think? 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24000" y="981000"/>
            <a:ext cx="8424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ich country is Galicia part of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France / Spain / Ita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2. How many people in the world speak Galicia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2.5 million / 2,500 / 2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3. How many years have Aborigines lived in Australia?     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  500,000 / 50,000 / 5,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4. What % of US drugs come from native remedies?    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80% / 50% / 2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5. How many years ago did humans first start using language?  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1,500,000 / 150,000 / 15,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574560" y="764640"/>
            <a:ext cx="856944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6. About how many languages are there now in the world?    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7000 / 700 / 7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7. How many languages do linguists think we could have in 100 years?   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600 / 60 /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8. When did French become the standard language of France?  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14</a:t>
            </a:r>
            <a:r>
              <a:rPr b="0" lang="en-GB" sz="3200" spc="-1" strike="noStrike" baseline="30000">
                <a:solidFill>
                  <a:srgbClr val="7030a0"/>
                </a:solidFill>
                <a:latin typeface="Calibri"/>
              </a:rPr>
              <a:t>th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 / 16</a:t>
            </a:r>
            <a:r>
              <a:rPr b="0" lang="en-GB" sz="3200" spc="-1" strike="noStrike" baseline="30000">
                <a:solidFill>
                  <a:srgbClr val="7030a0"/>
                </a:solidFill>
                <a:latin typeface="Calibri"/>
              </a:rPr>
              <a:t>th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 / 18</a:t>
            </a:r>
            <a:r>
              <a:rPr b="0" lang="en-GB" sz="3200" spc="-1" strike="noStrike" baseline="30000">
                <a:solidFill>
                  <a:srgbClr val="7030a0"/>
                </a:solidFill>
                <a:latin typeface="Calibri"/>
              </a:rPr>
              <a:t>th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 centu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9. How many people speak Sami (from Scandinavia / Russia)?  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200,000 / 20,000 / 2,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10. How many official local languages are there in Zambia?  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700 / 70 /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ow read this to find the answers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ewiki.newint.org/index.php/Languages_-_a_revol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1762200" y="2781360"/>
            <a:ext cx="561960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04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alibri"/>
              </a:rPr>
              <a:t>Key:  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268280"/>
            <a:ext cx="40384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p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2.5 mill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50,0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25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150,0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8320" y="549000"/>
            <a:ext cx="40384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6. 7,0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7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8. 18</a:t>
            </a:r>
            <a:r>
              <a:rPr b="0" lang="en-GB" sz="4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cent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9. 20,0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10. 7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Calibri"/>
              </a:rPr>
              <a:t>Now read the original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newint.org/features/2014/06/01/keynote-minority-langu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733320" y="5013360"/>
            <a:ext cx="269712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8T09:44:50Z</dcterms:created>
  <dc:creator>Linda Ruas</dc:creator>
  <dc:description/>
  <dc:language>en-US</dc:language>
  <cp:lastModifiedBy>Linda Ruas</cp:lastModifiedBy>
  <dcterms:modified xsi:type="dcterms:W3CDTF">2014-06-08T11:47:25Z</dcterms:modified>
  <cp:revision>6</cp:revision>
  <dc:subject/>
  <dc:title>Quiz about minority languages</dc:title>
</cp:coreProperties>
</file>